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9A1-6B56-42EC-B8CD-54EB03D0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5BF-559C-42A0-8C74-829F5188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670-C93A-43B0-9DD4-9DEA30C9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934-DD8E-43F4-9A70-951A6B6D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880-90A6-410F-A142-30256D70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B8F-3DA0-47F2-875E-D249CCFB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9C9-2052-40BA-AFE5-D30FEF12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5BC-E1B9-4B1B-8843-A755AEA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AA0-C590-4ADD-A336-6E3C3218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C5E-B89D-4555-97E7-F4DCEF3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0A5-2049-4035-9D9A-2E310FCA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8CA-15A6-4AB2-A80E-99C9C425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3BBC-2E5E-40F7-AD96-3242CD401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1835280" y="260280"/>
            <a:ext cx="6481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Аз идвам,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Господ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сърцето ми Ти промени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Във Теб мечтата 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да съм чист сбъд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2200" y="2660760"/>
            <a:ext cx="6481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Сега разбрах то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че сам не мога да върв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но ще ме водиш неж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защото любов си 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36360" y="-27000"/>
            <a:ext cx="9180360" cy="73184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Исусе м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води ме Ти към кръста С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Моля Те, пребъдвай Ти във м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Да чуй света за силата на любов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Ще дойда аз при Теб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води ме Ти напр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защото любов си 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274680"/>
            <a:ext cx="4681800" cy="89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Допри очите 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със балсам ги помаж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Присъствието 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ще ме изце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Духът ми обно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и волята Си изя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живея всеки ден с Теб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защото любов си 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4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36360" y="-27000"/>
            <a:ext cx="9180360" cy="73184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Исусе м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води ме Ти към кръста С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Моля Те, пребъдвай Ти във м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Да чуй све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за силата на любов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Ще дойда аз при Теб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води ме Ти напр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защото любов си 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7000"/>
            <a:ext cx="9144000" cy="73184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Исусе м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води ме Ти към кръста С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Моля Те, пребъдвай Ти във м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Да чуй све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за силата на любов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Ще дойда аз при Теб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води ме Ти напр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00"/>
                </a:solidFill>
                <a:latin typeface="Monotype Corsiva"/>
              </a:rPr>
              <a:t>защото любов си 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4354560" y="460440"/>
            <a:ext cx="446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Ще дойда аз при Теб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води ме Ти напр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защото любов си 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Monotype Corsiva"/>
              </a:rPr>
              <a:t>Любов си 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1:00:15Z</dcterms:created>
  <dc:creator>TrifonTrifonow</dc:creator>
  <dc:description/>
  <dc:language>en-US</dc:language>
  <cp:lastModifiedBy>TrifonTrifonow</cp:lastModifiedBy>
  <dcterms:modified xsi:type="dcterms:W3CDTF">2005-09-29T19:24:16Z</dcterms:modified>
  <cp:revision>18</cp:revision>
  <dc:subject/>
  <dc:title>Slide 1</dc:title>
</cp:coreProperties>
</file>